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5F76-CE9E-440B-8330-EF3CF112E6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AE4-7FF3-4747-A99A-0E962F0A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935-A498-4633-A4DE-106D529D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8D6-A750-4D5E-9AE7-2E516ED7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C640-F297-46F3-8B14-E9C063C7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699C-C586-4D7F-B6DB-FB02A8DB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F4F8-82E3-44BE-8354-972A9024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0708-C44F-4C11-92A2-96D3E25E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D785-50A9-4A8C-B2A5-D4552ABD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676A-C38E-4A45-95A9-E92571F5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A38C-1D4C-446F-8089-7CD37ACE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6C5F-ACB0-4AC5-BA8D-BF9B9406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923-C276-4E48-A446-9141D642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D9DA-FA0B-4EC6-841C-EC97A6F1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CE8D-77DF-44A4-8237-4E3BECD3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5898-79DC-4B67-A03B-52C09936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96C0-52CF-456A-922D-943CEA2D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4DED-2987-4088-BE30-D7D1FBB5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043-2073-44A4-B2CA-A3DC3E38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EC2-EE42-46FE-A05E-CA501D10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C7A-5EBC-4B4D-A526-ABB5BA90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4E0-AABC-477F-9102-A4F063C0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F9E-294A-47EF-9386-F73C6733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60F-8A5B-4FAD-9984-3E5D7CA9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86E-4815-436B-B3BA-85F1C875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6C54-7B2C-43B9-907F-F59B9C11FC1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EF97-AD9D-492B-922C-5EA5B7B602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371600" y="3124080"/>
            <a:ext cx="6400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452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rects all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ell activit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tru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everything the cell do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instructions are found on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ereditar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erial calle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arg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gan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nucleus"/>
          <p:cNvPicPr/>
          <p:nvPr/>
        </p:nvPicPr>
        <p:blipFill>
          <a:blip r:embed="rId1"/>
          <a:stretch/>
        </p:blipFill>
        <p:spPr>
          <a:xfrm>
            <a:off x="762120" y="2362320"/>
            <a:ext cx="3657600" cy="388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8" descr="nucleus#2"/>
          <p:cNvPicPr/>
          <p:nvPr/>
        </p:nvPicPr>
        <p:blipFill>
          <a:blip r:embed="rId2"/>
          <a:stretch/>
        </p:blipFill>
        <p:spPr>
          <a:xfrm>
            <a:off x="5638680" y="38088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AR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8" descr="aEukaryoticCell"/>
          <p:cNvPicPr/>
          <p:nvPr/>
        </p:nvPicPr>
        <p:blipFill>
          <a:blip r:embed="rId1"/>
          <a:stretch/>
        </p:blipFill>
        <p:spPr>
          <a:xfrm>
            <a:off x="4800600" y="251460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60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rom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ytoplas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s movement of material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 &amp; o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nucle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OL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ka “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ittle 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nd i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nucleolusfigure1"/>
          <p:cNvPicPr/>
          <p:nvPr/>
        </p:nvPicPr>
        <p:blipFill>
          <a:blip r:embed="rId1"/>
          <a:stretch/>
        </p:blipFill>
        <p:spPr>
          <a:xfrm>
            <a:off x="4495680" y="2590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HROMATI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enetic co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controls c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i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chromosome"/>
          <p:cNvPicPr/>
          <p:nvPr/>
        </p:nvPicPr>
        <p:blipFill>
          <a:blip r:embed="rId1"/>
          <a:stretch/>
        </p:blipFill>
        <p:spPr>
          <a:xfrm>
            <a:off x="5715000" y="2971800"/>
            <a:ext cx="2552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CELL TRA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smallest unit that is capable of perform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fe func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5" descr="eucell"/>
          <p:cNvPicPr/>
          <p:nvPr/>
        </p:nvPicPr>
        <p:blipFill>
          <a:blip r:embed="rId1"/>
          <a:stretch/>
        </p:blipFill>
        <p:spPr>
          <a:xfrm>
            <a:off x="3581280" y="327672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difftypesofcells3"/>
          <p:cNvPicPr/>
          <p:nvPr/>
        </p:nvPicPr>
        <p:blipFill>
          <a:blip r:embed="rId1"/>
          <a:stretch/>
        </p:blipFill>
        <p:spPr>
          <a:xfrm>
            <a:off x="5334120" y="762120"/>
            <a:ext cx="3533760" cy="579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OMPARING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114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a cell relates to it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(job it do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support"/>
          <p:cNvPicPr/>
          <p:nvPr/>
        </p:nvPicPr>
        <p:blipFill>
          <a:blip r:embed="rId2"/>
          <a:stretch/>
        </p:blipFill>
        <p:spPr>
          <a:xfrm>
            <a:off x="1219320" y="4724280"/>
            <a:ext cx="21430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Pro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proh KAYR ee yah tihk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2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ond sc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DSCN0576"/>
          <p:cNvPicPr/>
          <p:nvPr/>
        </p:nvPicPr>
        <p:blipFill>
          <a:blip r:embed="rId1"/>
          <a:stretch/>
        </p:blipFill>
        <p:spPr>
          <a:xfrm>
            <a:off x="5486400" y="2362320"/>
            <a:ext cx="315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Eu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yew KAYR ee yah tihk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with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animal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is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9" descr="EukaryoticCell"/>
          <p:cNvPicPr/>
          <p:nvPr/>
        </p:nvPicPr>
        <p:blipFill>
          <a:blip r:embed="rId1"/>
          <a:stretch/>
        </p:blipFill>
        <p:spPr>
          <a:xfrm>
            <a:off x="1066680" y="2590920"/>
            <a:ext cx="3733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c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c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made of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ul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ell wall is found 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g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&amp; mos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CELL W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7" descr="cell wall#2"/>
          <p:cNvPicPr/>
          <p:nvPr/>
        </p:nvPicPr>
        <p:blipFill>
          <a:blip r:embed="rId1"/>
          <a:stretch/>
        </p:blipFill>
        <p:spPr>
          <a:xfrm>
            <a:off x="5562720" y="457200"/>
            <a:ext cx="29620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ELL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440" y="23623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er covering, 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ctive lay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oun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cells with cell walls,the cell membrane i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ide the cell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oo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to the cell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oducts out of the cel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10" descr="cytoplasm"/>
          <p:cNvPicPr/>
          <p:nvPr/>
        </p:nvPicPr>
        <p:blipFill>
          <a:blip r:embed="rId1"/>
          <a:stretch/>
        </p:blipFill>
        <p:spPr>
          <a:xfrm>
            <a:off x="5791320" y="25146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PLA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gelatin-lik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ide cell membr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antl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lo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oplas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YTOPLASM #2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ytoplasm"/>
          <p:cNvPicPr/>
          <p:nvPr/>
        </p:nvPicPr>
        <p:blipFill>
          <a:blip r:embed="rId2"/>
          <a:stretch/>
        </p:blipFill>
        <p:spPr>
          <a:xfrm>
            <a:off x="5105520" y="3733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SKELETO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38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scaffold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-like structure in cytoplasm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lps the cell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maintai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chang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ts shap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ei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ch1_cytoskeleton"/>
          <p:cNvPicPr/>
          <p:nvPr/>
        </p:nvPicPr>
        <p:blipFill>
          <a:blip r:embed="rId1"/>
          <a:stretch/>
        </p:blipFill>
        <p:spPr>
          <a:xfrm>
            <a:off x="5257800" y="2514600"/>
            <a:ext cx="333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21:40:52Z</dcterms:created>
  <dc:creator>Becky</dc:creator>
  <dc:description/>
  <dc:language>en-US</dc:language>
  <cp:lastModifiedBy>RomaK</cp:lastModifiedBy>
  <dcterms:modified xsi:type="dcterms:W3CDTF">2015-09-04T10:55:38Z</dcterms:modified>
  <cp:revision>13</cp:revision>
  <dc:subject/>
  <dc:title>Chapter 2 “Cells” Section 1: “Cell Structure Pages 38 – 40</dc:title>
</cp:coreProperties>
</file>